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C76B-66E2-44E0-B8E4-48AFBD43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9854-85CE-4C0C-A72E-36514A78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8F0C-CF1C-4C75-BE10-F0CEE6E0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B9FD-E8DA-4303-82ED-87E724E7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E98-7B5A-4B68-9C79-96773B85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A50-F33D-45CE-B980-4F24E11A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6B42-3579-416C-8492-976B80ED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F247-1643-46F6-82AF-5D29C03D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59F7-79CA-4407-8AC2-97765B1B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B9E6-C582-421F-A1F4-221278C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52F-9DE4-40A1-9DEE-9E79EC2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0538-8481-485E-AF04-AB64F8C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6F2B-38FC-4F4A-AD0D-DFCDA65C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370-D638-4814-92AB-811B326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24A6-80B0-4A4F-93A0-C6B6787D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B8FF-DD61-4408-99D5-37257138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BE2C-AD3B-4D80-997A-65429AC7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7FE5-6F0C-4D05-BD0A-683AEEE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C7FF-758B-49A4-8E59-C126830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0B03-DD34-4ACC-AF75-360B561D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5BC1-D664-43B9-A286-1C5806E5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AB33-3020-4865-B42D-6F79EF5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CDFA-FE97-4823-9D7F-CBBC6BA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C181-965E-4EC1-B7C1-C4B6504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650-A2AB-4533-9EAA-FF52B645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0D1E-0DED-451F-B39E-EDFD95C5E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9.6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ertain state the automobile license plates consist of two letters followed by a four-digit number.  To avoid confusion between “O” and “zero” and “I” and “one”, the letters “O” and “I” are not used. How many distinct license plate numbers can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Digit Number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our-digit numbers can be formed under the following condi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no repetitions of digits i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the number must be less than 5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the number must be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lock will open when the right choice of three numbers (from 1 to 40, inclusive) is selected.  How many different lock combinations are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able Per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DISTINGUISHABLE ways can the letters in BANANA be 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DISTINGUISHABLE ways can the letters in Alabama be 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In how many ways can a committee of three men and four women be selected from a group of five men and ten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Page 672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#33-39,43-5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3:42Z</dcterms:created>
  <dc:creator>jnewman</dc:creator>
  <dc:description/>
  <dc:language>en-US</dc:language>
  <cp:lastModifiedBy>abeason</cp:lastModifiedBy>
  <dcterms:modified xsi:type="dcterms:W3CDTF">2009-04-01T18:11:07Z</dcterms:modified>
  <cp:revision>5</cp:revision>
  <dc:subject/>
  <dc:title>Lesson 9.6 part two</dc:title>
</cp:coreProperties>
</file>